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FE6C2-F6AA-4108-AF2B-2CC5BA1C7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5F98C-B7BD-4C40-99BE-DAD7334D3B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C470-2F62-4D55-B572-E2D6BDF79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4E63-F825-41BC-95D3-CEE8AF88F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09D9-4808-4C7C-9832-62DAC0A34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DABC-58D7-4338-9E38-50AB37BD0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0864-7556-4662-870C-94F2D9BFE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E2EA-6C99-4C2B-AD4B-601EDD8A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E5A0-6467-4389-89B3-BA252237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0C93-B501-4A20-ABAF-77210E91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55A4-1095-4330-81BB-612C2F38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3A85-5898-4783-8654-D1EB6058A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B0F6-058B-49E5-8DA0-F382EB63C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9AD2-2D1C-4989-8F8B-C1FCB0097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1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42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5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46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47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8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89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2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93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94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5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4"/>
          <a:stretch/>
        </p:blipFill>
        <p:spPr>
          <a:xfrm>
            <a:off x="1738440" y="590724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E3BAB-59B0-4A44-AF0C-03AC6FD74C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37720" y="1752480"/>
            <a:ext cx="71247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10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hancing partnership among Africa RISING, NAFAKA and TUBORESHE CHAKULA Programs for fast tracking delivery and scaling of agricultural technologies in Tanza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112480" y="4648320"/>
            <a:ext cx="45752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alibri"/>
              </a:rPr>
              <a:t>Haroon Sseguy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chnology Scaling Speciali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ext Placeholder 2"/>
          <p:cNvSpPr/>
          <p:nvPr/>
        </p:nvSpPr>
        <p:spPr>
          <a:xfrm>
            <a:off x="2438280" y="3733920"/>
            <a:ext cx="4575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Operational issu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Scaling Framework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445" name="Content Placeholder 3" descr=""/>
          <p:cNvPicPr/>
          <p:nvPr/>
        </p:nvPicPr>
        <p:blipFill>
          <a:blip r:embed="rId1"/>
          <a:stretch/>
        </p:blipFill>
        <p:spPr>
          <a:xfrm>
            <a:off x="1069920" y="1600200"/>
            <a:ext cx="7004160" cy="452592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4"/>
          <p:cNvSpPr/>
          <p:nvPr/>
        </p:nvSpPr>
        <p:spPr>
          <a:xfrm>
            <a:off x="1069920" y="6172200"/>
            <a:ext cx="5483160" cy="457200"/>
          </a:xfrm>
          <a:prstGeom prst="rect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ource: World Health Organization (201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Scaling approa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8" name="Picture 2" descr=""/>
          <p:cNvPicPr/>
          <p:nvPr/>
        </p:nvPicPr>
        <p:blipFill>
          <a:blip r:embed="rId1"/>
          <a:srcRect l="15176" t="23270" r="-378" b="0"/>
          <a:stretch/>
        </p:blipFill>
        <p:spPr>
          <a:xfrm>
            <a:off x="762120" y="1488960"/>
            <a:ext cx="708660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Operational issues  - general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Gener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caling up or ou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ow to involve local (especially district ag) institu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nitoring data collection (DCFs, Success stori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xchange visit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AFAKA presence – new/old are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Operational issues - expansion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Expans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AFAKA presence (old and new region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am partnership (some already in new areas, others not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munity entry (new are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connaissance visit and buy-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nal reorgan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itle 1"/>
          <p:cNvSpPr/>
          <p:nvPr/>
        </p:nvSpPr>
        <p:spPr>
          <a:xfrm>
            <a:off x="476280" y="19051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56834"/>
                </a:solidFill>
                <a:latin typeface="Gill Sans"/>
              </a:rPr>
              <a:t>Thank You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7T17:37:57Z</dcterms:created>
  <dc:creator>Haroon Sseguya</dc:creator>
  <dc:description/>
  <dc:language>en-US</dc:language>
  <cp:lastModifiedBy>Haroon Sseguya</cp:lastModifiedBy>
  <cp:lastPrinted>2011-10-06T11:45:23Z</cp:lastPrinted>
  <dcterms:modified xsi:type="dcterms:W3CDTF">2015-07-09T05:08:44Z</dcterms:modified>
  <cp:revision>21</cp:revision>
  <dc:subject/>
  <dc:title>PowerPoint Presentation</dc:title>
</cp:coreProperties>
</file>